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6C0-F0A9-4FDF-B258-54DB07B4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1B2-11F3-4006-B6EE-B7E60194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D15-402E-4422-8C32-2717B986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A49-FBD9-4E7D-86F3-BF7896A3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B02-8DB7-4ED9-B570-E9ED85C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E4F-7E76-4430-91C3-AB7F47B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43E-9EDF-4ABB-A87F-61D7F5D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871-D372-456A-A5EF-D0EB2A1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FDE-A1E3-476C-8850-284222A7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59C-FAA9-4DE2-8A2E-B03EB5E2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21E-1CCF-44FF-8F34-064BA61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AEE-B650-4FCE-97C2-D76FEEE5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EA3C-BEBA-4AB7-AD65-8C4D6E2D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vingroomcandidate.org/commercials/1976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r Presi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ter and Ford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360" y="148428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signed by Israel and Egypt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erms for peace in the Middle East (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5200" y="417600"/>
            <a:ext cx="388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agreements to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issues, nation’s rights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 as reducing Cold War 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2520" y="54468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allows the former h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Iran (Shah) in for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– Iranian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t and takeover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2:25:46Z</dcterms:created>
  <dc:creator>School District U46</dc:creator>
  <dc:description/>
  <dc:language>en-US</dc:language>
  <cp:lastModifiedBy>School District U46</cp:lastModifiedBy>
  <dcterms:modified xsi:type="dcterms:W3CDTF">2012-04-16T14:06:15Z</dcterms:modified>
  <cp:revision>7</cp:revision>
  <dc:subject/>
  <dc:title>Slide 1</dc:title>
</cp:coreProperties>
</file>